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727A-5099-4838-84D1-5AB2BF82E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D104-8750-4693-A2C1-A3F5BF21C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8631-0788-464A-BE3C-D48EA1142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2B68-039F-461D-8FA9-9C2307DD1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8786-D79B-42A7-A882-31362DED6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80C1-EC04-4164-82DD-EBCE095D5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EBFC-BDD2-4B92-A18A-013DCD0FC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ACE6-F456-437E-8327-39BD74413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9AC1-853D-405B-AECD-F14F16209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16C8-A5B2-4145-96FD-52CF5DED8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2CC4-4CDC-49EF-BFCB-2793AF4F3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6470-EEFB-46AA-A1C2-8246641FB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44B9-17FF-46B7-ABD4-40B6A247B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B1F3-62FB-4DD2-B54A-039C40C5C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2EAB-E43C-4997-A2AE-0F818B64A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7363-1FE3-4113-8706-959B405D8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3EB7-44E9-4297-BBFF-B4FF5ADCE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the term Minds-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solutions:   -9,-8,-7,….  Or  -38, -36,….  OR -67, -64, -61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EBB7-A7D1-47DD-92F9-C81294DF3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DCB2-8CE0-4D19-AC2C-10D6CCDCE70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Mathematical Processes are the actions of doing mathematics. These are presented in the Revised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Mathematics Curriculum of 2005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 &lt;Name them out loud&gt; These processe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form the primary gea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of the metaph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interconnected processes of Representing, Reflecting, Reasoning and Proving, Connecting and Selecting Tools and Computational Strategie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make up disk of the gea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Communicating and Problem Solving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are closely linked to each of the other 5 proces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t is essential that our students are capable of communicating their mathematics therefore it is essential that they are given opportunities to practice.  Communicating is integral in each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of the other processe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blem Solving i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the driver of all mathematics.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The solution of rich mathematics questions requires the application of skills and understanding of concepts and incorporates some or all of the mathematical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&lt;&lt;Click to next slide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3F9C-FCA9-477D-A4AB-4A080CD77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6B83-54EA-47F1-ADE5-EFF7049C2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B909-CBE7-40EC-AF92-02646A213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AC7C-5722-46AE-B80F-914E1DDB1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57E0-6AA1-4AA3-80DA-05A16A6A2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7B95-AE4C-4A83-AE1F-8F5F5FB86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BD37-B3E3-4C86-9295-B04CAE41D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55FC-49B3-4B44-BFFE-3E18C2A21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DDEF-E541-468A-A944-2828341F8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1758-761F-4913-9A26-D2341284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6B97-700F-4B0D-9016-882506DB7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ECFE-5F41-4DBE-A833-F3219F3F2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3D58-C3D9-439A-8B72-EC3FD1693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B21E-55DF-4C18-87E2-EDD0BA415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5E68-A826-430D-8981-32AE84CF7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4A05-C540-466F-B998-786C01401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2EDC-C5FA-4BC8-B0C9-CD0D3976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5F2B-7553-41A1-A02A-06AC1F8BF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33EB-C825-419D-AEDD-61BA55A0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AC31-B6CC-408F-B8C1-03E532EBA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: positive if -9, -8,-7,….  (it would be 10)  or negative e.g. -270, -260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75CC-6FC3-4117-A85D-A42B44A29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2606-F2F1-4B10-A007-49CB5597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A0B1-45D7-48CC-B950-70D8D1127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359F-6F29-45A1-B3A1-6A159F4C6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62E7-D5F8-4A9A-AA62-325314988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A8C9-0319-464C-A497-FA5C7188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A153-F997-4DB2-AFFA-F5286AEA3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813C-8416-4625-926A-9149FB23F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A6E2-C4E1-496C-A8FD-A088FD892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1500-3C61-467E-AA82-7766D81DB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B7CB-7B20-40A4-8D0D-E59E2347F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2654-A2B2-4865-99B9-06CE766AA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99D1-AF1C-4E92-B1C5-65D5B9DAF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what other representation  ( or mayb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E0C5-F10B-4C4B-9110-606632939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FED6-CB44-4462-95D4-7343E538B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BF3D-349A-48CB-AA1B-D6757078F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5013-79FF-4FC6-AEAA-65B4A7E09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5F36-AC44-4F83-B03E-761519D67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DF39-A1E4-429F-A206-303518AF7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D6BA-92A4-4C66-9F46-A80E4F10C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6221-FD71-4AAE-B4EB-6626BC1A4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that there are many sequences with a common term; maybe what a linear growing pattern is; maybe that if the sequence grows fast then values that are near in position  are far apart but if the sequence goes slow, it’s not true; maybe it’s that sequences can grow fast or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C078-1E7D-4E62-A91D-3ED33D916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deal with first big idea regardless but second one only if I ask that other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0719-C98D-440F-B00C-1F45A9CD3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7A8-F6BE-497D-9FC0-16A1A97D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BFA-D173-4BE8-B7FF-15CF28EC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2C6-D316-46E9-AA22-6F60D4EF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5D4-133A-4FC9-AE33-74688425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015D-ACE6-4D6F-B961-CBFF7D52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E4BD-46F5-4F1C-B4BE-9719059A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24D8-3D43-4EDF-B673-DFAA4F57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8DA4-FED2-4762-890C-1A782701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B5BB-578B-4701-8A81-AACA9D1E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5D6C-0478-49DA-A024-BC182EB7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DF51-D243-4FAD-ADAA-F8388EFA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D9BC-E616-47A6-B41A-1FBF2446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5991-3292-4A69-A078-F63E3DE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7C26-E3AD-4C22-BA4D-F0F86A12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924C-F760-4E17-A029-1F14911C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CAB5-7D85-428B-BA16-263A03CC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B476-A227-4235-8570-684A5F19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000-8DAA-44DA-BF1C-69D818C7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632-02E6-4A02-BCBE-2E583EE4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6DA-E46C-4BD9-BCA5-63DC2569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906-A978-4069-A6D2-1215C9E5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103-9291-4B28-B741-F87F000B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FEA-5B3E-4A58-AC59-3ECCFFA7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A38-0D55-406A-9F3E-148EA0EB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1610-DD5C-48AB-94B7-525515A0104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0E6C-0DD7-41A1-A12A-6CB8BBD5709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uld the student be able to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 10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of a linear pattern is relatively small, the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CA4C-23F4-4AC5-902A-32F2E83FEC5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each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xperience is that setting lesson goals beyond reciting an expectation or simply using a topic name is a struggle for teac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39AB-0635-4E29-B5DE-02A2305C04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90720" y="21337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ead of reciting this curriculum expectation as a goal: solve problems involving percents expressed to .. whole-number percents greater than 100%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E340-31B5-4498-B181-4E6D893C7C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90720" y="220968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one number is less than 100% of another, the second number is more than 100% of the first.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DBD7-250F-4D7A-A8DE-3721670B274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228600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percent is greater than 100%, its decimal equivalent is greater than 1.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F94F-3119-42FD-9EFC-BB3054CD540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17440" y="19051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ame strategies are used to solve problems involving percents greater than 100% as problems involving percents less than 100%. 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7B77-5DAF-4999-8393-03FDA760E5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57EB-FA08-428A-93C7-9005BA62E6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CA70-03D5-421E-A6B1-E6F0ABDBE14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BB52-467F-4C01-9503-0C70C7FF6E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B8FA-0230-470D-9BC7-7A5A59DA9E9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4495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n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ww.onetwoinfinity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EF6E-465D-4C5C-971B-325C420AC05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Picture 2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2057400" y="3733920"/>
            <a:ext cx="5943600" cy="30456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A85D-04B6-436E-B89A-4BF3BE92F64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Picture 3.png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4419720" y="1905120"/>
            <a:ext cx="434340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648320" y="2666880"/>
            <a:ext cx="342900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324480" y="2895480"/>
            <a:ext cx="28195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209680" y="3124080"/>
            <a:ext cx="35053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BECE-7399-4E7F-9F6A-DED5CAF517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Picture 4.pn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DF69-9D1F-41A8-A517-0992F522F9D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D58A-BB7C-4153-A6D6-D839450D3D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Picture 6.png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19051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th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ay someone figures out terms 3, 4, 5, and 6 might be very different from the way that person figures out term 100 becaus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74E1-7A48-44A7-BCA5-30E1148385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2193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A651-BF3E-42ED-BB71-74F22FFFAEC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2193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ian Small: ….one that link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3D9F-D96A-4184-90A9-F568752F883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not a topic name nor is it an overall expectation. It is a statement (sentence) that a student could walk away with that mak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7A27-3D54-46B9-BC21-ED35F1BF680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generalized mathematical relationships and change using words and symbo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DB64-774B-4BED-AB1D-89C088DB51E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42920" y="2014560"/>
            <a:ext cx="7416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hird term in a linear growing pattern is neg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term is 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ight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0033-7B96-4CEB-9C8A-424C583239C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no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possible that, on first blush, this may sound like a definition, but it’s not. It provides a new lens in which to embed the lear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FE3D-3B3F-43AE-96D2-BF70833E07E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132000" y="1052640"/>
            <a:ext cx="5554800" cy="5562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0" y="1614600"/>
            <a:ext cx="5029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c0000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ff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cc00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8080"/>
                </a:solidFill>
                <a:latin typeface="Arial"/>
              </a:rPr>
              <a:t>Selecting Tools and Comput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 rot="18202800">
            <a:off x="3752640" y="339372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4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-57240" y="196524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0"/>
          <p:cNvSpPr txBox="1"/>
          <p:nvPr/>
        </p:nvSpPr>
        <p:spPr>
          <a:xfrm rot="19346400">
            <a:off x="5314680" y="3166560"/>
            <a:ext cx="895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8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526E-006 L 0.30642 0.22196 E">
                                      <p:cBhvr>
                                        <p:cTn id="333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5723E-006 L 0.67431 -0.04 E">
                                      <p:cBhvr>
                                        <p:cTn id="33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0.37552 -0.17989 E">
                                      <p:cBhvr>
                                        <p:cTn id="33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6647E-006 L 0.37621 0.07976 E">
                                      <p:cBhvr>
                                        <p:cTn id="339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31214E-006 L 0.49705 -0.20879 E">
                                      <p:cBhvr>
                                        <p:cTn id="341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91329E-006 L 0.45347 0.15977 E">
                                      <p:cBhvr>
                                        <p:cTn id="413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50867E-006 L 0.61268 0.34174 E">
                                      <p:cBhvr>
                                        <p:cTn id="426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tice th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895480" y="1905120"/>
            <a:ext cx="5740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e embedded processes in the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- communication, reasoning, conn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A5FB-9732-4784-9C7C-55078190467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609480" y="4343400"/>
            <a:ext cx="2144880" cy="2147760"/>
          </a:xfrm>
          <a:prstGeom prst="rect">
            <a:avLst/>
          </a:prstGeom>
          <a:ln w="0">
            <a:noFill/>
          </a:ln>
        </p:spPr>
      </p:pic>
      <p:sp>
        <p:nvSpPr>
          <p:cNvPr id="194" name="WordArt 10"/>
          <p:cNvSpPr txBox="1"/>
          <p:nvPr/>
        </p:nvSpPr>
        <p:spPr>
          <a:xfrm rot="19346400">
            <a:off x="1225440" y="504000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WordArt 8" descr=""/>
          <p:cNvPicPr/>
          <p:nvPr/>
        </p:nvPicPr>
        <p:blipFill>
          <a:blip r:embed="rId2"/>
          <a:stretch/>
        </p:blipFill>
        <p:spPr>
          <a:xfrm>
            <a:off x="755640" y="5479920"/>
            <a:ext cx="1085760" cy="4334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6"/>
          <p:cNvSpPr txBox="1"/>
          <p:nvPr/>
        </p:nvSpPr>
        <p:spPr>
          <a:xfrm rot="20286600">
            <a:off x="1002960" y="448596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57200" y="1905120"/>
            <a:ext cx="86868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fferent representations of relationships (e.g. numeric, graphic, geometric, algebraic, verbal,concrete/pictorial) highlight different characteristic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haviours, and can serve different purpo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D158-A0D2-4107-8D9D-6F6DC03900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457200" y="1905120"/>
            <a:ext cx="327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D234-EB3F-4ECF-8DEF-2A06D4E11AE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203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4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7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8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9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ng mathematical relationships helps us see that there are classes of relationships and provides insight into each member of the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6883-9C78-48BB-B852-1B57D1ECC36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ed information about a mathematical relationship can sometimes, but not always, allow us to predict other information about that relationshi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D98A-9A86-48E9-9079-EF3871E4AE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which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F7EC-0111-4F81-8844-2417702E002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7EAB-BB21-46C8-9950-73DEC075ECC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143000" y="2666880"/>
            <a:ext cx="7416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5810-2943-46A7-ABB4-8B1B912984F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42920" y="201456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E5D0-ABB3-4186-B40C-E675F295E5C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19320" y="2362320"/>
          <a:ext cx="7391160" cy="2743200"/>
        </p:xfrm>
        <a:graphic>
          <a:graphicData uri="http://schemas.openxmlformats.org/drawingml/2006/table">
            <a:tbl>
              <a:tblPr/>
              <a:tblGrid>
                <a:gridCol w="1825560"/>
                <a:gridCol w="865080"/>
                <a:gridCol w="593640"/>
                <a:gridCol w="822600"/>
                <a:gridCol w="820440"/>
                <a:gridCol w="820800"/>
                <a:gridCol w="822600"/>
                <a:gridCol w="820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143000" y="266688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8268-08D3-40B2-A226-5CC70EE5085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143000" y="26668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generaliz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EB4C-3AB3-4A18-A307-A5850D958D8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describing or analyzing relationships or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C692-9072-4FF0-96C8-E62E0B6A0E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2 broaden a student’s sense of what different representations mean and/or what their purpose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4AF0-087E-4F3D-A06C-6DDEAD73C3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 that matched Big Idea 3 broaden a student’s notion of what a “class” of relationships might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3CEA-F5E2-4D76-9962-151B29A5BDC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143000" y="266688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 you think of other examples that you’ve used in the past (with or without realizing it) to make students see that from limited information you can get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DE34-3DEA-410B-BA9A-E79F3A1D6D4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066680" y="1828800"/>
            <a:ext cx="741708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96BC-C39F-4483-B566-54321DEAD27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build connections students need in order to learn both through grades and within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ioritize instruction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A9C1-62D3-4660-9D13-6E9F832701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helps for students to know what the big ideas are so that the connections to prior knowledge they are making are more exp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EAD3-645B-4636-88E5-F04872C66A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66680" y="182880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0AA6-9793-4ECD-8808-D123C859139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42920" y="20145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 either positive or negative? Why is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6724-BBB2-4545-8EE3-689F0FCC55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B1B0-1CF9-40B2-B9E9-360A4A59827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66680" y="18288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going to propose that it is not that “students will use a balance to solve a linear equation”, b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09DC-C6C3-4004-82F9-31A32E020C2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be: recognizing that solving an equation means determining an equivalent equation where the unknown value is more obviou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0412-FF91-429A-9025-D55F41054F3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066680" y="182880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7014-F55E-4286-8A3D-D417606955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38080" y="4114800"/>
            <a:ext cx="7417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D7AF-EBF2-4DD6-88AB-C1C5744A7C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523880" y="18097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it’s sure easier to see the unknown value in one of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66680" y="25909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need to ask a question or two that gets RIGHT to my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C114-3469-4CBA-A97C-472F0286FA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066680" y="25909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or disagree: The equation 5x – 4 =  17 + 3x is really the equation x = 10.5 in disgu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DADE-DE61-49FD-988B-057534B4A1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066680" y="259092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equation would you find easier to solve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x – 4 =  17 + 3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1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5D32-7C4E-44A4-8A80-11667CFE9D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066680" y="25909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that solving an equation is about finding what easier equation is being disgui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0D76-431E-4A3E-85D7-B275C1FD7C7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066680" y="19810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urriculum expectation reads: construct tables of values and graphs using a variety of tools to represent linear relations derived from descriptions of realistic situ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73DA-A996-4E81-9524-121D5AECB40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289548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B5C2-8EEF-4BF2-95E0-C01FE5ED56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y goal today might 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066680" y="1981080"/>
            <a:ext cx="7417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students to see that it is useful to write the table of values where the independent variable increases in a consistent way, but that’s not required for a table of val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C6BA-B012-44FB-848A-43C57ECD8F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 I could as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066680" y="19810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e are two tables of values. You want to find out if they represent linear relationships. Which table makes it easier to te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072C-905D-4554-9088-F7912F33F42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2D1A-98DF-48D2-AB31-C3476D4105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447920" y="91440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25780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66680" y="19810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use the other table too, if you want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394A-5DCD-48E6-96BC-DE2968F3CC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r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066680" y="19810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goal could have been, instead, to ask students to consider how a graphical representation of that same relationship gives other insights int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1B6E-545F-45CF-AAE4-7621862CA7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F209-C8CE-4784-83DA-B17753D3FD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066680" y="19810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/pair/sh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difference between an expectation and a big idea?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so big about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Importan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ould like to introduce you to Margaret Wise Brown’s The Important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2640-3D21-44C8-ACAF-E1F46A08C1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Samp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A9C2-6AFC-4C1C-8415-F022ECBD84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Picture 1.png"/>
          <p:cNvPicPr/>
          <p:nvPr/>
        </p:nvPicPr>
        <p:blipFill>
          <a:blip r:embed="rId1"/>
          <a:stretch/>
        </p:blipFill>
        <p:spPr>
          <a:xfrm>
            <a:off x="1415880" y="190440"/>
            <a:ext cx="6312240" cy="647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w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4B24-C41D-4E51-999D-ED452E2390D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is book throughout the week as a way for you to consolidate what you explore in our CAMPP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as the important underlyin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94E5-DACA-4E27-B7C8-A29B242726C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uld OR how would this question force students to deal with that underlyin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2AE1-AA33-474F-BE98-2E44D4869E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uld the student be able to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28954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are a lot of linear patterns that include the same term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1B7E-B354-4617-8382-17EB10E777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7:20:59Z</dcterms:created>
  <dc:creator>PSteele</dc:creator>
  <dc:description/>
  <dc:language>en-US</dc:language>
  <cp:lastModifiedBy>Marian Small</cp:lastModifiedBy>
  <dcterms:modified xsi:type="dcterms:W3CDTF">2009-07-21T18:52:37Z</dcterms:modified>
  <cp:revision>129</cp:revision>
  <dc:subject/>
  <dc:title>Slide 1</dc:title>
</cp:coreProperties>
</file>